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5BA-46BF-4307-9B9C-A14911EE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F60-D9EF-4FD4-9A76-C04637A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0CB-D40D-4B15-B384-1BAB53A3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AE9-047A-405E-9E8D-C6C96A2B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61D0-0182-433C-9EA2-2A8C702A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5B0D-7B26-4C14-9AD9-CA2E6EB9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12EC-D969-474D-B25C-D6BC9B5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0854-076B-4CC2-81E3-02D33EAF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2575-3A0A-4990-8A1F-EA23279A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5100-4D65-4056-997A-5EED9D0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6D11-4ABC-4508-852E-7571E59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94A-E3C4-4E8D-8C80-FE0B649C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6F59-CAA2-4C4A-97D1-BBED960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70FC-1D97-427D-ADAC-7644F26E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5280-1FB7-4FA0-8F44-59D6F3D8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DF38-435A-488B-8A7F-79D77135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196D-E645-4B05-A799-CA1EE0DE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C4B-C712-481F-B2AB-5FCD59B5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9E6-E5B2-4829-B728-28212F15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734-E1D3-4514-A356-B16B0ACD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C65-AC1E-49B1-8FAE-046B4B9D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A1B-9447-4651-B785-AEC67EB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15F-7BB2-47B5-BBCA-31BE8793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DAA-7AF1-422E-ADBC-A52FB69D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easant Grove H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BE92-E099-4BBD-A831-B8D6A93072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Types of Computers &amp;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omputer Hardware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ainfra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314880" cy="3648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expensive computer capable of simultaneously processing data for hundreds or thousands of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store, manage, and process large amounts of data that need to be reliable, secure, and centr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housed in a closet sized cabi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erv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is to “serv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that has the purpose of supplying its  users with data; usually through the use of a LAN (local area networ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41560" cy="3803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Handhel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a PDA (Personal Digital Assista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uter that fits into a pocket, runs on batteries, and is used while holding the unit in your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sed as an appointment book, address book, calculator, and note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ynchronized with a personal microcomputer as a back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8227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omputer Hardwar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09572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ystem uni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hat holds the power supply, storage devices, and the circuit boards (including the motherboa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166860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PU (Central Processing Unit)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502884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processing in a computer takes place, often called the brain of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458800" cy="294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that gather information and transform that information it into a series of electronic signals for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Keyboar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rangement of letters, numbers, and special function keys that act as the primary input device to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89872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us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put device that allows the user to manipulate objects on the screen by moving the device along the surface of a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95280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ound Car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ircuit board that gives the computer the ability to accept audio input, play sound files, and produce audio output through speakers or headph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30560" cy="2795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asic Terminology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that accepts input, processes data, stores data, and produces output, all according to a series of stored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the electronic and mechanical devices that process the data; refers to the computer as well as peripheral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uter program that tells the computer how to perform particular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or more computers and other devices that are connected, for the purpose of sharing data an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expand the computer’s input, output and storage cap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d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vice that sends and receives data to and from computers over telephone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0400" y="3371760"/>
            <a:ext cx="335268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utput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 that display, print, or transmit the results of processing from the computer’s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79920" y="1600200"/>
            <a:ext cx="2241360" cy="218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43430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device that forms an image by converting electrical signals from the computer into points of colored light on the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density of the grid used to display or print text and graphics; the greater the horizontal and vertical density, the higher the resolu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smallest unit in a graphic image; computer display devices use a matrix of pixels to display text and graphic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torage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keep data when the power to the computer is turned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ppy or zip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Wr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299088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rin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vice that produces text or graphical images on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4189320" cy="334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peaker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572000"/>
            <a:ext cx="77724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vices that receive signals from the computer’s sound card to play music, narration, or sound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97036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urc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asic Terminology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ever is put into a computer syst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fers to the symbols that represent facts, objects, or ide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results of the computer storing data as bits and bytes; the words, numbers, sounds, and graphic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sts of the processing results produced by a comput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nipulation of the data in many way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a of the computer that temporarily holds data waiting to be processed, stored, or outpu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a of the computer that holds data on a permanent basis when it is not immediately needed for processi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ypes of Computer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icro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sonal computer; designed to meet the computer needs of an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ccess to a wide variety of computing applications, such as word processing, photo editing, e-mail, and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14800" cy="3460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Desktop Micro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crocomputer that fits on a desk and runs on power from an electrical wall out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PU can be housed in either a vertical or a horizont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eparate components (keyboard, mouse, etc.) that are each plugged into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aptop 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able, compact computer that can run on an electrical wall outlet or a battery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ponents (keyboard, mouse, etc.) are in one compact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more expensive than a comparable desk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a Note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42900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orkstation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desktop computer designed for specialize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ackle tasks that require a lot of processing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be an ordinary personal computer attached to a LAN (local area networ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per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uter that was the fastest in the world at the time it was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ackle tasks that would not be practical for other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ical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eaking c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ling weather sys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45:59Z</dcterms:created>
  <dc:creator>Michelle Guymon</dc:creator>
  <dc:description/>
  <dc:language>en-US</dc:language>
  <cp:lastModifiedBy>Larry Phelps</cp:lastModifiedBy>
  <dcterms:modified xsi:type="dcterms:W3CDTF">2004-09-07T16:53:02Z</dcterms:modified>
  <cp:revision>69</cp:revision>
  <dc:subject/>
  <dc:title>Types of Computers</dc:title>
</cp:coreProperties>
</file>